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A1E-BEE7-452F-A02A-5C241931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508-02EE-4C4B-A457-0E3EF7D3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EA8-4473-4FFF-93EA-9FBB7299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B9E-23BF-401A-8751-6319B399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C61-623E-47B6-ADF2-063B41F1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159-6149-480E-860D-93B0C181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62F-CD81-48EF-8E69-25DFA5EE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8BE-391E-45ED-A9A4-B5FEADDC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C6F-99D0-4334-A2F6-AAE8488E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336-2F2C-43D5-A5F5-DFD00715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02B-58DD-4858-AB0E-E988602F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039-556E-415F-AD1E-6F4DDEB8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AD1-87DA-488E-94C0-69B6164C852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magensde.com.br/imagens/fotos/paisagens-xxxvii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magensde.com.br/imagens/fotos/paisagens-xxxi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magensde.com.br/imagens/fotos/paisagens-x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agensde.com.br/imagens/fotos/paisagens-xxx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aisagens-xxxv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7000"/>
            <a:ext cx="11306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9999"/>
                </a:solidFill>
                <a:latin typeface="Arial"/>
              </a:rPr>
              <a:t>Monte Cast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Legião Urb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aisagens-xxx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3050640" y="2133000"/>
            <a:ext cx="5260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Sem amor, eu nada seria</a:t>
            </a:r>
            <a:r>
              <a:rPr b="0" lang="pt-BR" sz="1800" spc="-1" strike="noStrike">
                <a:solidFill>
                  <a:srgbClr val="bbe0e3"/>
                </a:solidFill>
                <a:latin typeface="Arial"/>
              </a:rPr>
              <a:t>..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aisagens Paisage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10585440" cy="6921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2923920" y="2026440"/>
            <a:ext cx="57081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É só o amor, é só o amor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Que conhece o que é verdade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O amor é bom, não quer o mal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Não sente inveja</a:t>
            </a:r>
            <a:br>
              <a:rPr sz="3200"/>
            </a:b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Ou se envaide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aisagens Fotos De Paisage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00000" y="-458640"/>
            <a:ext cx="11771280" cy="8748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3349440" y="3380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276720" y="503640"/>
            <a:ext cx="6188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O amor é o fogo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Que arde sem se ver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ferida que dói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 não se sent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um contentamento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Descontent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dor que desatina sem doer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aisagens Imagens De Paisagens Em Papel De Parede"/>
          <p:cNvPicPr/>
          <p:nvPr/>
        </p:nvPicPr>
        <p:blipFill>
          <a:blip r:embed="rId1"/>
          <a:stretch/>
        </p:blipFill>
        <p:spPr>
          <a:xfrm>
            <a:off x="0" y="-736560"/>
            <a:ext cx="10015560" cy="8194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995280" y="844920"/>
            <a:ext cx="526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Sem amor, eu nada seria..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aisagens-xxxii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3323520" y="1189440"/>
            <a:ext cx="4289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não quere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is que bem quere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solitário andar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ntre a gent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não contentar-s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content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uidar que se ga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se perder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640" y="6857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aisagens-viii"/>
          <p:cNvPicPr/>
          <p:nvPr/>
        </p:nvPicPr>
        <p:blipFill>
          <a:blip r:embed="rId1"/>
          <a:stretch/>
        </p:blipFill>
        <p:spPr>
          <a:xfrm>
            <a:off x="-541440" y="0"/>
            <a:ext cx="100821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3637800" y="979920"/>
            <a:ext cx="550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um estar-se preso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Por vontad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servir a quem venc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O vencedor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um ter com quem nos mata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 lealdad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Tão contrário a si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o mesmo amor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aisagens-ii"/>
          <p:cNvPicPr/>
          <p:nvPr/>
        </p:nvPicPr>
        <p:blipFill>
          <a:blip r:embed="rId1"/>
          <a:stretch/>
        </p:blipFill>
        <p:spPr>
          <a:xfrm>
            <a:off x="-900000" y="-27000"/>
            <a:ext cx="10044000" cy="7397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2846160" y="321120"/>
            <a:ext cx="598248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stou acordado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 todos dormem, todos dormem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Todos dormem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gora vejo em part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Mas então veremos face a fac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É só o amor, é só o amor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Que conhece o que é verdade..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inda que eu falasse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A língua dos homen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E falasse a língua dos anjos</a:t>
            </a:r>
            <a:br>
              <a:rPr sz="3200"/>
            </a:br>
            <a:r>
              <a:rPr b="0" lang="pt-BR" sz="3200" spc="-1" strike="noStrike">
                <a:solidFill>
                  <a:srgbClr val="bbe0e3"/>
                </a:solidFill>
                <a:latin typeface="Arial"/>
              </a:rPr>
              <a:t>Sem amor, eu nada seria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51:07Z</dcterms:created>
  <dc:creator>SEDMS</dc:creator>
  <dc:description/>
  <dc:language>en-US</dc:language>
  <cp:lastModifiedBy>ACER</cp:lastModifiedBy>
  <dcterms:modified xsi:type="dcterms:W3CDTF">2010-10-19T21:53:49Z</dcterms:modified>
  <cp:revision>2</cp:revision>
  <dc:subject/>
  <dc:title>Benedita</dc:title>
</cp:coreProperties>
</file>